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4B0623-D10C-40D8-8FE8-AAD9EFDFA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025ED3-1393-4E01-B426-886807FBB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C74980-40C2-441D-BF28-7A5E0764E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D775D7-D85E-44CA-8549-EC1FBD0A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5A0334-2358-4352-843A-33F29DB0B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97AE63-3459-4A00-A56B-D62BA086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90D268-B366-4C0A-8EDC-864C067EF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7FE638-9ECD-4D77-B2B7-7AF5F669B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16F820-7664-49D6-BF08-4D6B900B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8DA4B0-BBBB-4C0A-8842-23E11BF56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76560" y="884088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793078-8D91-454A-BA07-875477FB6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84088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7656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266760"/>
            <a:ext cx="6848640" cy="275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PA’s Strength in Both GEOSS &amp; ESIP;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nvironmental Health Decisionmaking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0640" y="3003480"/>
            <a:ext cx="7832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0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Gray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t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Office of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0160" y="250920"/>
            <a:ext cx="8102520" cy="119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3333cc"/>
                </a:solidFill>
                <a:latin typeface="Arial"/>
              </a:rPr>
              <a:t>Outcome Performance Evaluation Framework for GEOS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00280"/>
            <a:ext cx="6566040" cy="4570200"/>
          </a:xfrm>
          <a:prstGeom prst="rect">
            <a:avLst/>
          </a:prstGeom>
          <a:solidFill>
            <a:srgbClr val="b3db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700280"/>
            <a:ext cx="274680" cy="4570200"/>
          </a:xfrm>
          <a:prstGeom prst="rect">
            <a:avLst/>
          </a:prstGeom>
          <a:solidFill>
            <a:srgbClr val="e6f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700280"/>
            <a:ext cx="274680" cy="4570200"/>
          </a:xfrm>
          <a:prstGeom prst="rect">
            <a:avLst/>
          </a:prstGeom>
          <a:solidFill>
            <a:srgbClr val="f2f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700280"/>
            <a:ext cx="274680" cy="4570200"/>
          </a:xfrm>
          <a:prstGeom prst="rect">
            <a:avLst/>
          </a:prstGeom>
          <a:solidFill>
            <a:srgbClr val="c9e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01480" y="174636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62920" y="1700280"/>
            <a:ext cx="871560" cy="4570200"/>
          </a:xfrm>
          <a:prstGeom prst="rect">
            <a:avLst/>
          </a:prstGeom>
          <a:solidFill>
            <a:srgbClr val="a5d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28000" y="177480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28000" y="3284640"/>
            <a:ext cx="1116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The 9 Societal Benefit Ar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28000" y="4365720"/>
            <a:ext cx="111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3333cc"/>
                </a:solidFill>
                <a:latin typeface="Arial"/>
              </a:rPr>
              <a:t>Seco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3333cc"/>
                </a:solidFill>
                <a:latin typeface="Arial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284640"/>
            <a:ext cx="289080" cy="1792080"/>
          </a:xfrm>
          <a:prstGeom prst="rightArrow">
            <a:avLst>
              <a:gd name="adj1" fmla="val 50000"/>
              <a:gd name="adj2" fmla="val 53745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3068640"/>
            <a:ext cx="151128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Level 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Uptake of GEO standards, etc. and implementation of GEO recommend-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3284640"/>
            <a:ext cx="289080" cy="1792080"/>
          </a:xfrm>
          <a:prstGeom prst="rightArrow">
            <a:avLst>
              <a:gd name="adj1" fmla="val 50000"/>
              <a:gd name="adj2" fmla="val 53745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068640"/>
            <a:ext cx="1439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Level 2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Changes to information system inter-operability &amp; information acces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284640"/>
            <a:ext cx="288720" cy="1792080"/>
          </a:xfrm>
          <a:prstGeom prst="rightArrow">
            <a:avLst>
              <a:gd name="adj1" fmla="val 50000"/>
              <a:gd name="adj2" fmla="val 53745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068640"/>
            <a:ext cx="11527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Level 3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Changes to decision support  (end user) products 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068640"/>
            <a:ext cx="13683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Level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33cc"/>
                </a:solidFill>
                <a:latin typeface="Arial"/>
              </a:rPr>
              <a:t>Responses by affected populations to improved decision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284640"/>
            <a:ext cx="288720" cy="1792080"/>
          </a:xfrm>
          <a:prstGeom prst="rightArrow">
            <a:avLst>
              <a:gd name="adj1" fmla="val 50000"/>
              <a:gd name="adj2" fmla="val 53745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 rot="5400000">
            <a:off x="4966920" y="3824280"/>
            <a:ext cx="252108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Decision Making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24000" y="3573360"/>
            <a:ext cx="828000" cy="1152360"/>
            <a:chOff x="324000" y="3573360"/>
            <a:chExt cx="828000" cy="1152360"/>
          </a:xfrm>
        </p:grpSpPr>
        <p:sp>
          <p:nvSpPr>
            <p:cNvPr id="142" name=""/>
            <p:cNvSpPr txBox="1"/>
            <p:nvPr/>
          </p:nvSpPr>
          <p:spPr>
            <a:xfrm rot="5400000">
              <a:off x="-5400" y="3902760"/>
              <a:ext cx="768240" cy="109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 rot="5400000">
              <a:off x="133200" y="4066920"/>
              <a:ext cx="1152360" cy="1648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 rot="5400000">
              <a:off x="540000" y="404064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79280" y="2421000"/>
            <a:ext cx="8423280" cy="431640"/>
            <a:chOff x="179280" y="2421000"/>
            <a:chExt cx="8423280" cy="431640"/>
          </a:xfrm>
        </p:grpSpPr>
        <p:sp>
          <p:nvSpPr>
            <p:cNvPr id="146" name=""/>
            <p:cNvSpPr/>
            <p:nvPr/>
          </p:nvSpPr>
          <p:spPr>
            <a:xfrm flipH="1" flipV="1">
              <a:off x="178920" y="2492280"/>
              <a:ext cx="1656000" cy="216000"/>
            </a:xfrm>
            <a:custGeom>
              <a:avLst/>
              <a:gdLst>
                <a:gd name="textAreaLeft" fmla="*/ 640440 w 1656000"/>
                <a:gd name="textAreaRight" fmla="*/ 1369800 w 1656000"/>
                <a:gd name="textAreaTop" fmla="*/ 127080 h 216000"/>
                <a:gd name="textAreaBottom" fmla="*/ 1792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93"/>
                  </a:moveTo>
                  <a:lnTo>
                    <a:pt x="12659" y="16393"/>
                  </a:lnTo>
                  <a:lnTo>
                    <a:pt x="12659" y="8354"/>
                  </a:lnTo>
                  <a:lnTo>
                    <a:pt x="8925" y="8354"/>
                  </a:lnTo>
                  <a:lnTo>
                    <a:pt x="15263" y="0"/>
                  </a:lnTo>
                  <a:lnTo>
                    <a:pt x="21600" y="8354"/>
                  </a:lnTo>
                  <a:lnTo>
                    <a:pt x="17866" y="8354"/>
                  </a:lnTo>
                  <a:lnTo>
                    <a:pt x="1786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2160" y="2492280"/>
              <a:ext cx="7610400" cy="73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16200000">
              <a:off x="1933560" y="2611440"/>
              <a:ext cx="287280" cy="195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1835280" y="2421000"/>
              <a:ext cx="5832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3333cc"/>
                  </a:solidFill>
                  <a:latin typeface="Arial"/>
                </a:rPr>
                <a:t>Learning &amp; Feedback</a:t>
              </a:r>
              <a:endParaRPr b="0" lang="en-US" sz="1200" spc="1" strike="noStrike">
                <a:ln w="0">
                  <a:noFill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16200000">
              <a:off x="3661920" y="2611080"/>
              <a:ext cx="287280" cy="195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-360 h 195480"/>
                <a:gd name="textAreaBottom" fmla="*/ 195480 h 1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16200000">
              <a:off x="5173200" y="2611080"/>
              <a:ext cx="287280" cy="195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-360 h 195480"/>
                <a:gd name="textAreaBottom" fmla="*/ 195480 h 1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16200000">
              <a:off x="6757920" y="2611440"/>
              <a:ext cx="287280" cy="195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 rot="16200000">
              <a:off x="8271000" y="2611440"/>
              <a:ext cx="287280" cy="195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360 h 195120"/>
                <a:gd name="textAreaBottom" fmla="*/ 195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81" y="0"/>
                  </a:lnTo>
                  <a:lnTo>
                    <a:pt x="21600" y="10800"/>
                  </a:lnTo>
                  <a:lnTo>
                    <a:pt x="10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39640" y="2637000"/>
            <a:ext cx="5472360" cy="3528720"/>
            <a:chOff x="539640" y="2637000"/>
            <a:chExt cx="5472360" cy="3528720"/>
          </a:xfrm>
        </p:grpSpPr>
        <p:sp>
          <p:nvSpPr>
            <p:cNvPr id="155" name=""/>
            <p:cNvSpPr/>
            <p:nvPr/>
          </p:nvSpPr>
          <p:spPr>
            <a:xfrm>
              <a:off x="539640" y="2997360"/>
              <a:ext cx="5472360" cy="3168360"/>
            </a:xfrm>
            <a:prstGeom prst="rect">
              <a:avLst/>
            </a:prstGeom>
            <a:noFill/>
            <a:ln w="381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2160" y="2637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33cc"/>
                  </a:solidFill>
                  <a:latin typeface="Arial"/>
                </a:rPr>
                <a:t>GE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0920" y="5229000"/>
            <a:ext cx="5401080" cy="863640"/>
            <a:chOff x="610920" y="5229000"/>
            <a:chExt cx="5401080" cy="863640"/>
          </a:xfrm>
        </p:grpSpPr>
        <p:sp>
          <p:nvSpPr>
            <p:cNvPr id="158" name=""/>
            <p:cNvSpPr/>
            <p:nvPr/>
          </p:nvSpPr>
          <p:spPr>
            <a:xfrm>
              <a:off x="1843200" y="5229360"/>
              <a:ext cx="4168800" cy="483120"/>
            </a:xfrm>
            <a:custGeom>
              <a:avLst/>
              <a:gdLst>
                <a:gd name="textAreaLeft" fmla="*/ 916560 w 4168800"/>
                <a:gd name="textAreaRight" fmla="*/ 3252240 w 4168800"/>
                <a:gd name="textAreaTop" fmla="*/ 106200 h 483120"/>
                <a:gd name="textAreaBottom" fmla="*/ 376920 h 48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16200000">
              <a:off x="2400840" y="3438720"/>
              <a:ext cx="863640" cy="4443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-360 h 4443480"/>
                <a:gd name="textAreaBottom" fmla="*/ 4443480 h 444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2160" stAng="10800000" swAng="5400000"/>
                  <a:lnTo>
                    <a:pt x="21600" y="0"/>
                  </a:lnTo>
                  <a:lnTo>
                    <a:pt x="21600" y="0"/>
                  </a:lnTo>
                  <a:lnTo>
                    <a:pt x="21600" y="6079"/>
                  </a:lnTo>
                  <a:lnTo>
                    <a:pt x="21600" y="12158"/>
                  </a:lnTo>
                  <a:lnTo>
                    <a:pt x="21600" y="12158"/>
                  </a:lnTo>
                  <a:lnTo>
                    <a:pt x="12427" y="12158"/>
                  </a:lnTo>
                  <a:arcTo wR="269" hR="2" stAng="16200000" swAng="-5400000"/>
                  <a:lnTo>
                    <a:pt x="12158" y="21600"/>
                  </a:lnTo>
                  <a:close/>
                </a:path>
              </a:pathLst>
            </a:cu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280" y="5627160"/>
              <a:ext cx="1069920" cy="456840"/>
            </a:xfrm>
            <a:prstGeom prst="rect">
              <a:avLst/>
            </a:pr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G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17120" y="5627160"/>
              <a:ext cx="779400" cy="456840"/>
            </a:xfrm>
            <a:prstGeom prst="rect">
              <a:avLst/>
            </a:pr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1120" y="5694840"/>
              <a:ext cx="1568880" cy="274320"/>
            </a:xfrm>
            <a:prstGeom prst="rect">
              <a:avLst/>
            </a:pr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333cc"/>
                  </a:solidFill>
                  <a:latin typeface="Arial"/>
                </a:rPr>
                <a:t>Process Outc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7240" y="5293440"/>
              <a:ext cx="2446920" cy="335160"/>
            </a:xfrm>
            <a:prstGeom prst="rect">
              <a:avLst/>
            </a:prstGeom>
            <a:solidFill>
              <a:srgbClr val="f7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837f2d"/>
                  </a:solidFill>
                  <a:latin typeface="Arial"/>
                </a:rPr>
                <a:t>GEO &amp; GEO Secretari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91600"/>
            <a:ext cx="7404120" cy="10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Outcome Performance Indicators for GEOS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1520" y="1752480"/>
            <a:ext cx="764532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Outcome Performance Indicators that were developed in 200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developed draft indicators on Soil Moi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PA developed draft indicators on Air Quality (AIRNow – Interna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17360" y="1749600"/>
            <a:ext cx="7289640" cy="2806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Any Questions?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990720"/>
            <a:ext cx="2057400" cy="12189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th System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895480"/>
            <a:ext cx="2514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th Observation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ly-sen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si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05120"/>
            <a:ext cx="1828800" cy="609480"/>
          </a:xfrm>
          <a:prstGeom prst="rect">
            <a:avLst/>
          </a:prstGeom>
          <a:solidFill>
            <a:srgbClr val="d3ea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4876920"/>
            <a:ext cx="3276720" cy="609480"/>
          </a:xfrm>
          <a:prstGeom prst="rect">
            <a:avLst/>
          </a:prstGeom>
          <a:solidFill>
            <a:srgbClr val="d3ea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going feedback to optim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and reduce g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47920"/>
            <a:ext cx="1447920" cy="761760"/>
          </a:xfrm>
          <a:prstGeom prst="ellipse">
            <a:avLst/>
          </a:prstGeom>
          <a:solidFill>
            <a:srgbClr val="c0ba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 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2209680"/>
            <a:ext cx="14479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2971800"/>
            <a:ext cx="1447920" cy="762120"/>
          </a:xfrm>
          <a:prstGeom prst="ellipse">
            <a:avLst/>
          </a:prstGeom>
          <a:solidFill>
            <a:srgbClr val="aaf4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0880" y="19051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ci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590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22096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22096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2209680"/>
            <a:ext cx="1295280" cy="2971800"/>
          </a:xfrm>
          <a:custGeom>
            <a:avLst/>
            <a:gdLst/>
            <a:ahLst/>
            <a:rect l="l" t="t" r="r" b="b"/>
            <a:pathLst>
              <a:path w="816" h="1824">
                <a:moveTo>
                  <a:pt x="816" y="0"/>
                </a:moveTo>
                <a:lnTo>
                  <a:pt x="816" y="1824"/>
                </a:lnTo>
                <a:lnTo>
                  <a:pt x="0" y="1824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114800"/>
            <a:ext cx="1447560" cy="106668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912" y="672"/>
                </a:moveTo>
                <a:lnTo>
                  <a:pt x="0" y="67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47920" y="22093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371600"/>
            <a:ext cx="990360" cy="213372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624" y="0"/>
                </a:lnTo>
                <a:lnTo>
                  <a:pt x="624" y="1344"/>
                </a:lnTo>
                <a:lnTo>
                  <a:pt x="288" y="134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220968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5320" y="1066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160" y="35053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63520"/>
            <a:ext cx="88315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Linking Earth Observations to Societal Benef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6160" y="377640"/>
            <a:ext cx="76708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Report on the Environment (ROE)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8720" y="1689120"/>
            <a:ext cx="328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o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for strategic outlook and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79960" y="1866960"/>
            <a:ext cx="300528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50520" y="390240"/>
            <a:ext cx="6172200" cy="10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Definition of Indicator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3000" y="1676160"/>
            <a:ext cx="79246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PA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on the Enviro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 indicator is a numerical value derived from actual measurements of a pressure, state or ambient condition, exposure, or human health or ecological condition over a specified geographic domain, whose trends over time represent or draw attention to underlying trends in the condition of the environ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4280" y="317160"/>
            <a:ext cx="62485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riteria for Indicator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dicator is useful. It answers (or makes an important contribution to answering) a question in the RO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dicator is objective. It is developed and presented in an accurate, clear, complete, and unbiased mann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dicator is transparent and reproducible. The specific data used and the specific assumptions, analytic methods, and statistical procedures employed are clearly stat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derlying data are characterized by sound collection methodologies, data management systems to protect its integrity, and quality assurance proced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are available to describe changes or trends and the latest available data are timel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ta are comparable across time and space, and representative of the target population. Trends depicted in this indicator accurately represent the underlying trends in the target population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25400" y="304920"/>
            <a:ext cx="581652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Structure of ROE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390320"/>
            <a:ext cx="803916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around 27 questions considered to be important to EPA’s 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87 peer-reviewed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s evaluated in five areas: air, water, land, human health, and 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5120" y="291960"/>
            <a:ext cx="7442280" cy="78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Examples of Key Question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2160" y="1320840"/>
            <a:ext cx="81658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rends in outdoor air quality and their effects on human health and the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rends in greenhouse gas emissions and concentr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rends in extent and condition of fresh surface waters and their effects on human health and the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rends in health status in the U.S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tent and distribution of the Nation’s ecological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8440" y="390240"/>
            <a:ext cx="7289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hallenges and Opportunitie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76480" y="1841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63560" y="368280"/>
            <a:ext cx="577872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Status of ROE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9720" y="1434600"/>
            <a:ext cx="7353360" cy="42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version of ROE (Dra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d Jun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version of 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revised to address SAB and public comments and include latest year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for release Spring of 2008 (Earth 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74120" y="57405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epa.gov/ord/ro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52:10Z</dcterms:created>
  <dc:creator>TARPLEY</dc:creator>
  <dc:description/>
  <dc:language>en-US</dc:language>
  <cp:lastModifiedBy>ewashbur</cp:lastModifiedBy>
  <dcterms:modified xsi:type="dcterms:W3CDTF">2008-01-09T23:33:31Z</dcterms:modified>
  <cp:revision>619</cp:revision>
  <dc:subject/>
  <dc:title>PowerPoint Presentation</dc:title>
</cp:coreProperties>
</file>